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409-6FDC-49E8-8D35-25445757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61D-877E-4EBF-88C9-014AD791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E94-7BF9-4942-9CC5-463C7E8E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FD9-47B2-4D01-B7FD-76235A79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677D-A191-4C0F-AB9D-8377877A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9FA5-AA3C-42F4-87A9-593B4E2B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2BD2-E013-4CC6-ACE4-68DD4853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2DAF-66B5-4481-880D-7D213A5A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D579-5B31-4E69-AAB4-267D4AEC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F4D3-C3EE-44B5-B70E-4E0CA700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5211-8699-41D7-A47E-165BC3F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DC0-B821-49E3-8C53-C1EDF309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8FE3-8125-424A-A10B-554D6A6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A747-BC24-49B5-8B3D-4DB08B8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E7C8-375E-4B31-8B9C-135C4F22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0F71-117D-4ED3-A270-10698352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9C8C-BB81-47B7-9B9E-94445159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C9D-F171-4EB5-A82D-A9F2DFE6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281-0B36-43F6-940A-ABD9B90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C76-2A0D-4953-87B9-E7ADF706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F7A-9AD3-45C8-B913-1BF1680F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E80-DBB2-4590-9E78-631F05C7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0D9-2A37-4913-971A-B37CED83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F70-80D1-4092-8CAC-837DF0F0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DAD7-28B7-456C-AA0A-EB4E5BE16684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55B5-9645-4970-8B62-30CF16E1AF15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97308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262080"/>
            <a:ext cx="8496000" cy="6335640"/>
          </a:xfrm>
          <a:custGeom>
            <a:avLst/>
            <a:gdLst>
              <a:gd name="textAreaLeft" fmla="*/ 1996560 w 8496000"/>
              <a:gd name="textAreaRight" fmla="*/ 6493320 w 8496000"/>
              <a:gd name="textAreaTop" fmla="*/ 744840 h 6335640"/>
              <a:gd name="textAreaBottom" fmla="*/ 3974040 h 633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119240"/>
            <a:ext cx="662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0" spc="-1" strike="noStrike">
                <a:solidFill>
                  <a:srgbClr val="000000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12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1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0560" y="84312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لوين مكفّي وحدك بهالدرب                                 ضايع عم تسأل عن درب الحب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0" y="371628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تعا تنمشي سوا صوب الرب                               بحب وثقة ملوى القل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r>
              <a:rPr b="1" lang="ar-SA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                  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تسلّم حالك ليسوع                                سلّمو قلبك بلا رجوع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ع حالك بين ايديه                                قلبو أحنّ من قلب البي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يهم كم باب دقّيت                                       ولا كم حلم تمنيت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انت بقلبو حلم قديم                                          يدلّك ع دروب الحياة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2:12:43Z</dcterms:created>
  <dc:creator>Kalisse</dc:creator>
  <dc:description/>
  <dc:language>en-US</dc:language>
  <cp:lastModifiedBy>user</cp:lastModifiedBy>
  <dcterms:modified xsi:type="dcterms:W3CDTF">2006-05-05T05:42:44Z</dcterms:modified>
  <cp:revision>52</cp:revision>
  <dc:subject/>
  <dc:title>Slide 1</dc:title>
</cp:coreProperties>
</file>